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A2A-E528-4809-AEEA-A9B12A0D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C88-02F8-48C8-9A6A-2DD47B19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4EF-9F48-4365-B3BD-265140F2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1CD-79F2-4983-8E64-11B125DA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10A6-53CB-46FF-9E60-48F37662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B1E-1AAE-4952-B232-B40F1046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EE2-D27D-4D84-98F9-7CFCA7EE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3EA-289F-4BFF-9DA2-0E92980C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2E51-12CF-47A4-8624-06F1C98F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40F-F6C0-4A3C-9C4D-5C2EC6AE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465-9F76-4A9F-9209-753890F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4F4-FCC0-4290-A2E7-06B60B96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2C1-4DF0-4D61-AFCD-E599A52EB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sbach.net/bass/elements/bach-hausmann.jpg&amp;imgrefurl=http://www.jsbach.net/bass/composer.html&amp;h=591&amp;w=480&amp;sz=59&amp;hl=en&amp;start=5&amp;um=1&amp;tbnid=smRxuZkdTDwV_M:&amp;tbnh=135&amp;tbnw=110&amp;prev=/images%3Fq%3DBach%26ndsp%3D18%26svnum%3D1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hoasm.org/1748HandelByHudson-0475.jpg&amp;imgrefurl=http://www.hoasm.org/PeriodX.html&amp;h=475&amp;w=402&amp;sz=73&amp;hl=en&amp;start=6&amp;um=1&amp;tbnid=jBHS5emQD7C71M:&amp;tbnh=129&amp;tbnw=109&amp;prev=/images%3Fq%3DHandel%26svnum%3D10%26um%3D1%26hl%3De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ndb.com/people/307/000093028/vivaldi-sm.jpg&amp;imgrefurl=http://www.nndb.com/people/307/000093028/&amp;h=284&amp;w=250&amp;sz=36&amp;hl=en&amp;start=38&amp;um=1&amp;tbnid=qqIYr-hVYbY47M:&amp;tbnh=114&amp;tbnw=100&amp;prev=/images%3Fq%3Dvivaldi%26start%3D36%26ndsp%3D18%26svnum%3D1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Created by Renee Sak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roque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354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Baroque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1600-1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Four Main Composers: Bach, Handel, Vivaldi and Monteve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Main Instruments: wheel fiddle, harpsichord, lute, violin, baroque gu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schenis_-_Musical_Instruments" descr=""/>
          <p:cNvPicPr/>
          <p:nvPr/>
        </p:nvPicPr>
        <p:blipFill>
          <a:blip r:embed="rId1"/>
          <a:stretch/>
        </p:blipFill>
        <p:spPr>
          <a:xfrm>
            <a:off x="6095880" y="4788000"/>
            <a:ext cx="2743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26copy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2101680" cy="2759040"/>
          </a:xfrm>
          <a:prstGeom prst="rect">
            <a:avLst/>
          </a:prstGeom>
          <a:ln w="0">
            <a:noFill/>
          </a:ln>
        </p:spPr>
      </p:pic>
      <p:pic>
        <p:nvPicPr>
          <p:cNvPr id="50" name="pilman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2406600" cy="3241800"/>
          </a:xfrm>
          <a:prstGeom prst="rect">
            <a:avLst/>
          </a:prstGeom>
          <a:ln w="0">
            <a:noFill/>
          </a:ln>
        </p:spPr>
      </p:pic>
      <p:pic>
        <p:nvPicPr>
          <p:cNvPr id="51" name="histdrs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238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Did They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300px-Vermeer_-_The_Milkmaid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45592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228-012-lrg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4400" cy="4154760"/>
          </a:xfrm>
          <a:prstGeom prst="rect">
            <a:avLst/>
          </a:prstGeom>
          <a:ln w="0">
            <a:noFill/>
          </a:ln>
        </p:spPr>
      </p:pic>
      <p:pic>
        <p:nvPicPr>
          <p:cNvPr id="55" name="old-masters-paintings" descr=""/>
          <p:cNvPicPr/>
          <p:nvPr/>
        </p:nvPicPr>
        <p:blipFill>
          <a:blip r:embed="rId3"/>
          <a:stretch/>
        </p:blipFill>
        <p:spPr>
          <a:xfrm>
            <a:off x="6477120" y="1828800"/>
            <a:ext cx="2500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What Did They Bui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hilltopb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962520" cy="2670120"/>
          </a:xfrm>
          <a:prstGeom prst="rect">
            <a:avLst/>
          </a:prstGeom>
          <a:ln w="0">
            <a:noFill/>
          </a:ln>
        </p:spPr>
      </p:pic>
      <p:pic>
        <p:nvPicPr>
          <p:cNvPr id="58" name="1893Avuevig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71920" cy="2681280"/>
          </a:xfrm>
          <a:prstGeom prst="rect">
            <a:avLst/>
          </a:prstGeom>
          <a:ln w="0">
            <a:noFill/>
          </a:ln>
        </p:spPr>
      </p:pic>
      <p:pic>
        <p:nvPicPr>
          <p:cNvPr id="59" name="EM25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38098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What Did They Listen 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B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Germ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usical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layed violin, harpsichord and 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1200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HA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Germ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Law School to Music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Brought to the English Royal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876920"/>
            <a:ext cx="1257120" cy="1542960"/>
          </a:xfrm>
          <a:prstGeom prst="rect">
            <a:avLst/>
          </a:prstGeom>
          <a:ln w="0">
            <a:noFill/>
          </a:ln>
        </p:spPr>
      </p:pic>
      <p:pic>
        <p:nvPicPr>
          <p:cNvPr id="64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5181480"/>
            <a:ext cx="12463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What Did They Listen 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VIVAL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tali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ught Violin from his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Became a Priest then a Mus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Over 700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NTEVER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tali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Worked as the choirmaster in a cathed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Older”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1143000" cy="1303560"/>
          </a:xfrm>
          <a:prstGeom prst="rect">
            <a:avLst/>
          </a:prstGeom>
          <a:ln w="0">
            <a:noFill/>
          </a:ln>
        </p:spPr>
      </p:pic>
      <p:pic>
        <p:nvPicPr>
          <p:cNvPr id="69" name="images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3496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21:24:09Z</dcterms:created>
  <dc:creator> Renee Sakos</dc:creator>
  <dc:description/>
  <dc:language>en-US</dc:language>
  <cp:lastModifiedBy> Renee Sakos</cp:lastModifiedBy>
  <dcterms:modified xsi:type="dcterms:W3CDTF">2007-07-12T22:54:50Z</dcterms:modified>
  <cp:revision>17</cp:revision>
  <dc:subject/>
  <dc:title>1</dc:title>
</cp:coreProperties>
</file>